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9A6F-6356-473C-809C-4FB87C0A4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6F5B-BABE-49D0-8592-5C5F9ECD8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0C1E-54AC-479D-9A7F-2F313C078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1B17-9D24-4AFD-8F89-BB84F1976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3BDE-77C8-4E5D-93F7-91B879D4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3FE0-3F62-465C-9570-265715FF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C203-0C6A-4797-859E-D4974C31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3BA-A2F9-49DF-809C-08CB498A3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C7B3-F8C2-4706-8C31-4EED64F8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476-B6F3-48A5-B3AD-3C297B1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2AFA-94B9-44AE-A35E-B685F968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0852-5CE3-47DC-9781-C0005468E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D96FAEC-7F54-4DF1-AE3C-523F80A3BC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95280" y="622440"/>
            <a:ext cx="4343400" cy="4336920"/>
          </a:xfrm>
          <a:prstGeom prst="rect">
            <a:avLst/>
          </a:prstGeom>
          <a:noFill/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95280" y="4654440"/>
            <a:ext cx="4343400" cy="3049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Black"/>
              </a:rPr>
              <a:t>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295280" y="2344680"/>
            <a:ext cx="4343400" cy="188748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AVILON „D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v areálu spol. Veletrhy Brno, a. s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PODROBNÝ PRŮZKUM STÁVAJÍCÍ STŘECHY</a:t>
            </a:r>
            <a:r>
              <a:rPr b="1" lang="en-US" sz="1000" spc="-1" strike="noStrike">
                <a:solidFill>
                  <a:srgbClr val="ffffff"/>
                </a:solidFill>
                <a:latin typeface="Times New Roman CE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BRNO, 03/2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74920" y="903240"/>
            <a:ext cx="1809720" cy="905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286440" y="902520"/>
            <a:ext cx="21697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cs-CZ" sz="1000" spc="-1" strike="noStrike">
                <a:solidFill>
                  <a:srgbClr val="000000"/>
                </a:solidFill>
                <a:latin typeface="Times New Roman CE"/>
              </a:rPr>
              <a:t>KŘENOVÁ 42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Kancelář: Bezručova 17a, 602 00 Br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T/F/Z - +420 543 215 2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Times New Roman CE"/>
              </a:rPr>
              <a:t>bestex@bestex.c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04T12:09:04Z</dcterms:created>
  <dc:creator>Libuna</dc:creator>
  <dc:description/>
  <dc:language>en-US</dc:language>
  <cp:lastModifiedBy>Libor Švaříček</cp:lastModifiedBy>
  <cp:lastPrinted>2000-06-07T12:15:56Z</cp:lastPrinted>
  <dcterms:modified xsi:type="dcterms:W3CDTF">2011-04-19T07:58:01Z</dcterms:modified>
  <cp:revision>141</cp:revision>
  <dc:subject/>
  <dc:title>bez titulu</dc:title>
</cp:coreProperties>
</file>